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3FF-EDF4-401A-B2FE-B59FE269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14A-7E23-4612-BC42-ED9FBA9A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72F-B795-4C3C-879D-03F77314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B98-B5B5-4A52-819F-C28338D2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1B8-5D95-497C-B08C-D42424FA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E08-5AD7-4D61-A424-EEF80C41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237-6171-4C32-B859-1C5B74E9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EA4-568F-4EE7-A14C-C6035EB0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EA2-4D3F-438A-9E58-4B57F44C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25D-EE9E-4F6D-BD28-177512D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E6B-0C91-4C92-B41F-2AA78B7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630-B12D-43C0-812F-C786BDD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7430-6E24-4E92-A7E8-EE570BCEA70F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1:39:21Z</dcterms:created>
  <dc:creator>admin2</dc:creator>
  <dc:description/>
  <dc:language>en-US</dc:language>
  <cp:lastModifiedBy>admin2</cp:lastModifiedBy>
  <dcterms:modified xsi:type="dcterms:W3CDTF">2012-02-11T11:48:31Z</dcterms:modified>
  <cp:revision>1</cp:revision>
  <dc:subject/>
  <dc:title>Diapozitivul 1</dc:title>
</cp:coreProperties>
</file>